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959B-E806-42DB-8E39-E14980AA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1158-EDE9-4109-A50A-ADA4DDA6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6A55-021A-46B0-B682-73B65253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A8A-FC8A-4806-BA99-5E2E3577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BDCB-D546-4B83-BC2E-1998CCE3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9707-65BB-4B00-8D94-C599F2FA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BDC8-0037-4489-82D8-88F155EC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C18-F491-4F87-8EF5-4BFAB20C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4AD6-6926-4895-8AC2-1F712C5D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1E2A-A8F1-4520-ACCC-0629A1F4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8377-1700-49B8-AC64-85059536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244C-6223-4E8C-B32D-CF5E6581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2521-26F7-4BE2-B79C-7E28B99FE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216648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5400000">
            <a:off x="251892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287136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3224160" y="29242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357588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392832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428076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199008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234252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269496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304740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339516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374760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410004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445248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181440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216684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51928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287172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3224160" y="3533760"/>
            <a:ext cx="409320" cy="352080"/>
          </a:xfrm>
          <a:prstGeom prst="hexagon">
            <a:avLst>
              <a:gd name="adj" fmla="val 29064"/>
              <a:gd name="vf" fmla="val 115470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357624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392868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28112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628880" y="35384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163800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199044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234288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cc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269532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304776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339516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4760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10004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445248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480492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146160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181404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cc66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216648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ff99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251892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287136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3224160" y="414360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57588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392832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28076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4628520" y="41479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4980960" y="41479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128556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163800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99044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34288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ff99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269532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ffcc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304776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339552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74796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10040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45284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80528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515772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00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11091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146160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181404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216648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251892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28713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224160" y="47530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7588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92832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42807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462888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498132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533376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128520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163764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99008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234252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269496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304740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339516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374760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410004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445248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80492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515736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146196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181440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669900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216684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ff33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251928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ff66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287172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3224160" y="5362560"/>
            <a:ext cx="409320" cy="352080"/>
          </a:xfrm>
          <a:prstGeom prst="hexagon">
            <a:avLst>
              <a:gd name="adj" fmla="val 29064"/>
              <a:gd name="vf" fmla="val 115470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357624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392868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428112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4628880" y="53672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33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981320" y="53672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163800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199044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234288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ff33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269532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04776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339516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374760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10004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445248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d6009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480492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181404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16648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251892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287136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3224160" y="597240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357588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392832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428076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4628520" y="59767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199044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234288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269532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304776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339552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374796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10040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445284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216648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251892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287136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3224160" y="65818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357588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392832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428076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199044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234288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269532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304776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339552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374796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410040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1c1c1c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445284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80808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216648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251892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287136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3224160" y="74962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777777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357588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392832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428076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111111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1081080" y="7162560"/>
            <a:ext cx="819000" cy="704880"/>
          </a:xfrm>
          <a:prstGeom prst="hexagon">
            <a:avLst>
              <a:gd name="adj" fmla="val 29047"/>
              <a:gd name="vf" fmla="val 1154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4962240" y="7157880"/>
            <a:ext cx="809640" cy="704880"/>
          </a:xfrm>
          <a:prstGeom prst="hexagon">
            <a:avLst>
              <a:gd name="adj" fmla="val 28716"/>
              <a:gd name="vf" fmla="val 1154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3716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GB Color 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this page to use for reference when designing files for prin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13:02:39Z</dcterms:created>
  <dc:creator/>
  <dc:description/>
  <dc:language>en-US</dc:language>
  <cp:lastModifiedBy>Electronics For Imaging, Inc.</cp:lastModifiedBy>
  <dcterms:modified xsi:type="dcterms:W3CDTF">2002-04-04T22:28:25Z</dcterms:modified>
  <cp:revision>3</cp:revision>
  <dc:subject/>
  <dc:title>RGB Color Reference</dc:title>
</cp:coreProperties>
</file>