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CC9-A68C-4253-8527-09CB52AF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CE6-0B3E-4911-A5F6-E074CB34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701-8F90-45EE-98A2-48FECCBE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B61-916E-440E-B0D2-AC82F927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D99-9E9D-4A56-A747-AAB4249B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448-B285-42E3-B5B9-98A2B041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73A-C4C7-4BDE-BAEB-A584E436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ABE-8045-4653-B7B4-41C3E1DB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5F3-49CC-4F7A-A237-71AD746B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EF2-3302-4073-8FC8-3AD7BA7D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EBE-6F62-4633-82DD-474953D2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2E0-4CA5-420B-936A-586EB546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B567-008D-4246-8107-38A288583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21664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25189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713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224160" y="2924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357588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92832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280760" y="2923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99008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4252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69496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3047400" y="32335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339516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74760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10004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452480" y="32288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181440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808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668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5192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28717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224160" y="35337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7624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92868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1120" y="35337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628880" y="35384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800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199044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234288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69532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3047760" y="38433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339516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4760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99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10004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45248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04920" y="38383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146160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993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1404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cc66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21664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25189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8713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3224160" y="41436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57588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92832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280760" y="41432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2852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4980960" y="41479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2855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163800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99044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34288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ff99"/>
          </a:soli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269532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3047760" y="44528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33955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374796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10040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45284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80528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157720" y="44481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1091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46160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81404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21664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5189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28713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3224160" y="47530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357588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392832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4280760" y="47527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462888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98132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333760" y="47577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2852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63764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99008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34252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69496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3047400" y="50623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3951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374760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10004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45248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0492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57360" y="50576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46196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81440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668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5192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8717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224160" y="5362560"/>
            <a:ext cx="409320" cy="352080"/>
          </a:xfrm>
          <a:prstGeom prst="hexagon">
            <a:avLst>
              <a:gd name="adj" fmla="val 29064"/>
              <a:gd name="vf" fmla="val 115470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57624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392868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281120" y="53625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62888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3399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981320" y="53672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63800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199044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34288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ff33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269532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3047760" y="567216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339516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374760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10004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45248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d6009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804920" y="56671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181404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1664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25189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28713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3224160" y="597240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357588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92832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4280760" y="597204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628520" y="5976720"/>
            <a:ext cx="400320" cy="352440"/>
          </a:xfrm>
          <a:prstGeom prst="hexagon">
            <a:avLst>
              <a:gd name="adj" fmla="val 28396"/>
              <a:gd name="vf" fmla="val 115470"/>
            </a:avLst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99044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34288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69532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3047760" y="62816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339552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374796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10040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4452840" y="62769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664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5189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28713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3224160" y="65818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57588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392832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4280760" y="65815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199044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34288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269532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3047760" y="7196040"/>
            <a:ext cx="399960" cy="352440"/>
          </a:xfrm>
          <a:prstGeom prst="hexagon">
            <a:avLst>
              <a:gd name="adj" fmla="val 28371"/>
              <a:gd name="vf" fmla="val 115470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339552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374796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410040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4452840" y="7191360"/>
            <a:ext cx="409320" cy="352440"/>
          </a:xfrm>
          <a:prstGeom prst="hexagon">
            <a:avLst>
              <a:gd name="adj" fmla="val 29035"/>
              <a:gd name="vf" fmla="val 115470"/>
            </a:avLst>
          </a:prstGeom>
          <a:solidFill>
            <a:srgbClr val="080808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21664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25189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28713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224160" y="7496280"/>
            <a:ext cx="409680" cy="352080"/>
          </a:xfrm>
          <a:prstGeom prst="hexagon">
            <a:avLst>
              <a:gd name="adj" fmla="val 29090"/>
              <a:gd name="vf" fmla="val 115470"/>
            </a:avLst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57588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392832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4280760" y="7495920"/>
            <a:ext cx="409680" cy="352440"/>
          </a:xfrm>
          <a:prstGeom prst="hexagon">
            <a:avLst>
              <a:gd name="adj" fmla="val 29060"/>
              <a:gd name="vf" fmla="val 115470"/>
            </a:avLst>
          </a:prstGeom>
          <a:solidFill>
            <a:srgbClr val="111111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1081080" y="7162560"/>
            <a:ext cx="819000" cy="704880"/>
          </a:xfrm>
          <a:prstGeom prst="hexagon">
            <a:avLst>
              <a:gd name="adj" fmla="val 29047"/>
              <a:gd name="vf" fmla="val 1154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962240" y="7157880"/>
            <a:ext cx="809640" cy="704880"/>
          </a:xfrm>
          <a:prstGeom prst="hexagon">
            <a:avLst>
              <a:gd name="adj" fmla="val 28716"/>
              <a:gd name="vf" fmla="val 1154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3716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GB Color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this page to use for reference when designing files for pri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3:02:39Z</dcterms:created>
  <dc:creator/>
  <dc:description/>
  <dc:language>en-US</dc:language>
  <cp:lastModifiedBy>Electronics For Imaging, Inc.</cp:lastModifiedBy>
  <dcterms:modified xsi:type="dcterms:W3CDTF">2002-04-04T22:28:25Z</dcterms:modified>
  <cp:revision>3</cp:revision>
  <dc:subject/>
  <dc:title>RGB Color Reference</dc:title>
</cp:coreProperties>
</file>